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268A2-184F-41A7-8AD6-A7D25FFB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B34BB-23C2-4143-9E55-AA6D66A5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933FE-E468-46D4-9C60-9F98D0EF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30F39-6586-4132-954D-665717BA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85DE-8079-4279-8E43-0CA667F0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6C1C-6B37-45EF-9C64-77FBCB3C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F9B0-CA12-43BB-B080-181EF0A9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FFE7-E304-4B51-9155-E1DD76C2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5CFB-DE70-4779-BAA6-C06448DB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E8C7-96C8-4B69-9EB6-1A23718D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0211-7E48-4CD0-98DC-B6208C91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00E72-4D60-4ACC-BCD0-74CCC1F1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9971-0629-436F-BFE7-51B4B186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929E-8806-4813-B403-52325588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A4AE-980B-466A-A834-2489BC86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A19D-5C8F-45AB-A459-7057D8E0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6001-65E3-4F63-91DF-4BECDC5C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66E5C-F6B7-47D6-92F7-D6995283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CC9EA-3902-4B3B-96C0-8D50C1C5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301D6-577F-44DA-960F-38ADC15C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EEB1D-2AFC-404E-AF20-DAD913DA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30F87-D21F-47AF-907F-E1AA7282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1EA4B-CD69-4F68-A8C5-CDA61601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A33D6-9CBC-46C9-88E4-FCA25D70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66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Z 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0E43-66F1-4735-9AEA-ADF425A935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KZ 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Z 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Z 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Z 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66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KZ 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Z 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KZ 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Z 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Z 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51BB-8E9D-4815-ACD4-532E3F79C5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KZ 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4">
            <a:hlinkClick r:id="rId1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Z 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79280" y="469800"/>
            <a:ext cx="87901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c00000"/>
                </a:solidFill>
                <a:latin typeface="KZ Times New Roman"/>
              </a:rPr>
              <a:t>“</a:t>
            </a:r>
            <a:r>
              <a:rPr b="1" lang="kk-KZ" sz="3200" spc="-1" strike="noStrike">
                <a:solidFill>
                  <a:srgbClr val="c00000"/>
                </a:solidFill>
                <a:latin typeface="KZ Times New Roman"/>
              </a:rPr>
              <a:t>Жасырынған әріптер”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514"/>
                </a:solidFill>
                <a:latin typeface="KZ Times New Roman"/>
              </a:rPr>
              <a:t>Көп нүктенің орнына тиісті әріптерді қойып көшіріп жазу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KZ 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c00000"/>
                </a:solidFill>
                <a:latin typeface="KZ Times New Roman"/>
              </a:rPr>
              <a:t>...н... т...л...ң  ...р...ң  б...л, ( а; і; ы; ұ)</a:t>
            </a:r>
            <a:endParaRPr b="0" lang="en-US" sz="3600" spc="-1" strike="noStrike">
              <a:solidFill>
                <a:srgbClr val="ffffff"/>
              </a:solidFill>
              <a:latin typeface="KZ 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c00000"/>
                </a:solidFill>
                <a:latin typeface="KZ Times New Roman"/>
              </a:rPr>
              <a:t>...т...ң б...п  т...р б...тт.... (ұ; я; ы; о; ұ; е)</a:t>
            </a:r>
            <a:endParaRPr b="0" lang="en-US" sz="3600" spc="-1" strike="noStrike">
              <a:solidFill>
                <a:srgbClr val="ffffff"/>
              </a:solidFill>
              <a:latin typeface="KZ 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KZ 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KZ 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00000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>
            <a:hlinkClick r:id="rId1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KZ 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79280" y="469800"/>
            <a:ext cx="87901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“</a:t>
            </a: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Адасқан әріптер” ойыны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  “</a:t>
            </a:r>
            <a:r>
              <a:rPr b="1" lang="kk-KZ" sz="3200" spc="-1" strike="noStrike">
                <a:solidFill>
                  <a:srgbClr val="c00000"/>
                </a:solidFill>
                <a:latin typeface="KZ Times New Roman"/>
              </a:rPr>
              <a:t>Адасқан әріптерді” орнына қой және жуан дауыстылардың астын сызу. 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а,б,л,а,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ұ,а,з,т,с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к,н,ф,е,т,о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c00000"/>
                </a:solidFill>
                <a:latin typeface="KZ Times New Roman"/>
              </a:rPr>
              <a:t>  “</a:t>
            </a:r>
            <a:r>
              <a:rPr b="1" lang="kk-KZ" sz="3200" spc="-1" strike="noStrike">
                <a:solidFill>
                  <a:srgbClr val="c00000"/>
                </a:solidFill>
                <a:latin typeface="KZ Times New Roman"/>
              </a:rPr>
              <a:t>Адасқан әріптерді” орнына қой және жіңішке  дауыстылардың астын сызу. 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е,т,р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д,у,а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194d"/>
                </a:solidFill>
                <a:latin typeface="KZ Times New Roman"/>
              </a:rPr>
              <a:t>к,і,е</a:t>
            </a: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KZ 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41:42Z</dcterms:created>
  <dc:creator>ученик</dc:creator>
  <dc:description/>
  <dc:language>en-US</dc:language>
  <cp:lastModifiedBy>Admin</cp:lastModifiedBy>
  <dcterms:modified xsi:type="dcterms:W3CDTF">2017-03-12T17:13:55Z</dcterms:modified>
  <cp:revision>7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